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96A-03C9-4607-8A6B-F2633CDF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02B-3802-47A6-89D6-67828F58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A18-60B8-4F4B-8915-13DBC397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58D-AAAF-4120-B9EC-EB30FFDC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0DD1-FFB2-46BD-9F93-E1AF002F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327-AEB4-4A36-837E-1E40B807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9131-BBF5-427C-A842-B44AA92D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8F93-1364-46F7-BF4C-9987AFCB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9C87-6EE1-46D8-A7DA-4150157E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CCF6-6986-40AE-A036-6706E837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B2A4-E326-493F-8037-2BB05FDF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3F5-530B-4949-83CD-573A3911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81DA-8740-41C2-95B9-5FDD4928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7210-084A-4BF0-9794-92844287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E5B5-810F-4C2F-A727-EE014F1B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6265-9D7B-4614-B794-9B880E69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27FB-2CEE-49BD-9705-A0CC49A3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6AE9-8702-494D-A503-A2A54CFF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4ACC-DAEA-4B3A-94F7-E744B93D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7A14-E59E-4991-AA2D-08DE6AFC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A842-569E-4E29-AAD2-0A9F1E9C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97C7-695B-4D78-8A3C-06265205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0E2-264B-4F5D-A915-89FB048B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1AA7-E48B-48F4-B428-A75A3B81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A018-6A69-4CB3-A178-D172FFC9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5DDC-AB04-400F-9401-65D5C38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5D00-E882-4D1B-8085-429D7BF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6DB8-0576-448B-881D-8D846A0D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866A-63C9-404F-852C-315847D3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3301-673C-4859-9D5C-23F01A7D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CDA-7122-4987-91AB-C14AAE2A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58B-A6A4-40CC-8528-D6B6219C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D44-B063-4AB6-9009-F9D526CD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47F-2E16-4181-9D50-226E3BF8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80E-6B3F-4BD0-84F9-1131B4E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B83-3083-4728-9F43-5F3FFD7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73E3-4940-4154-81D8-D285F9DA7E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C4E1-7773-4BBA-B475-DA723127EB7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03A0-8C10-49B7-93C9-ECFD6C9EA00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24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итломания в мире или феномен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atles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ыполнил: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Габов Русла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5" descr="beetls"/>
          <p:cNvPicPr/>
          <p:nvPr/>
        </p:nvPicPr>
        <p:blipFill>
          <a:blip r:embed="rId1"/>
          <a:stretch/>
        </p:blipFill>
        <p:spPr>
          <a:xfrm>
            <a:off x="1676520" y="2895480"/>
            <a:ext cx="58672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то мы узнаем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1)  Чем можно объяснить потрясающую популярность «великолепной четверки», которая создала настоящую молодежную субкультуру, оказавшую и продолжающую оказывать влияние на всю западную культуру в целом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2) В чем феномен "Битлз"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3) Каким образом они властвовали над умами нескольких поколений тинэйджеров и стали символом молодежного протест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4) Почему они оказали серьезное влияние на мировое направление моды, торговлю, промышленность, быт и искусство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d06is037"/>
          <p:cNvPicPr/>
          <p:nvPr/>
        </p:nvPicPr>
        <p:blipFill>
          <a:blip r:embed="rId1"/>
          <a:stretch/>
        </p:blipFill>
        <p:spPr>
          <a:xfrm>
            <a:off x="4114800" y="685800"/>
            <a:ext cx="4632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Зачем нам это нужно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8" name="Picture 5" descr="LIB4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2" descr=""/>
          <p:cNvPicPr/>
          <p:nvPr/>
        </p:nvPicPr>
        <p:blipFill>
          <a:blip r:embed="rId1"/>
          <a:stretch/>
        </p:blipFill>
        <p:spPr>
          <a:xfrm>
            <a:off x="365040" y="285840"/>
            <a:ext cx="85536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дставление результатов исследования</a:t>
            </a: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клад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чине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ворческое задание – инсценировк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зент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План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ведение в тему проекта. Просмотр  презентации уч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этап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иск информации по данной теме. Самостоятельная работа учащих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этап (1 ур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и учеников. Подведение ит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6-02T16:01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